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017-F4D4-451F-91A5-D48C844E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840-DCB6-4C15-823F-34A4A914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DC6-8F40-45C8-9D12-04882F90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BF1-E6A3-4B5A-BFB9-C67A1433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06ED-ED5A-462C-A12A-1B9767A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6CC-2C4B-40E3-B20B-E9C516B6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8C56-B3FD-482D-A91B-4B7DBDDF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32B3-29F0-48E8-ABFB-770D51ED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73E-1FB7-435F-BCFF-D68F1060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31C-D8F8-4369-AAF9-6A5B76C3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161A-65AB-44EB-8369-647DF5D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1D8-D677-4789-8506-63AC935D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7423-A312-4F53-931E-F93BFB2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0DBA-9865-4FC4-BC8B-8AF09FD9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8E9B-F2C3-48A1-B97F-E9330E1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2EF-B6C5-4212-A9F9-7C66087F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771-BBBE-456C-A149-6B8D4CC0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081F-B7D2-446A-8BAF-633D5A0A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C44E-6290-4878-9958-916CF16E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2DC7-1D81-4B40-88F1-94E644DD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68BA-75F5-463F-BD2D-8383FB22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7697-B9F0-42DB-A409-498CD7B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737-4383-4E13-A1C0-0BC930F1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3B8B-DFB4-40AB-AD8A-F9B7116F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E250-489D-49E2-B3E3-1F5318C8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ED2D-F4F9-46B5-9ADE-4E79823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424D-6EC4-4E72-9EA1-A2309D5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FFD6-0C9D-4CF4-A513-00ABCE1D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5702-3EF3-49D3-92ED-45C04D86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1ED8-2EB7-40C6-91A0-F241D75C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998B-2252-4B14-B575-ABBBA021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2EDA-0B5C-444A-A1E8-05BC32A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71D0-6966-4D6E-A03E-340ECD98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975-073A-4CE9-B50F-EF107A12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3E3B-F237-4EC4-82E1-F3EEA92E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CE93-1E5B-42C6-90C8-65546BB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335E-B6C1-440A-9EB8-5890344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B0AA-5DC5-43CE-B645-B42A36EA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CE286-E23C-4B6E-8CAA-E7CF037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AE64-F1D9-450B-B1D7-507F47A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088A-8F23-4E3C-BB2E-39F4EFE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4A44-385D-4301-BA60-5F6B3583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4C13-7616-45AA-8843-9E30BE7F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E8B9-4F2F-4238-AFE9-367F481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E6B-CCCB-45C3-94E0-C09E72CA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B5FF-A2DC-40D0-8F07-E494382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1324-21BF-44FA-B4EC-766C10F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6A15-1007-4459-862B-A10711E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F217-6A80-4860-A355-8F03E8FA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948E-01AE-4284-9F69-51B08A25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8A6E-FD39-41AD-83CB-8D639A5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4CE2-4711-4113-9E91-B0E28BA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B9C0-1647-496E-96B1-01E09423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AC5C-D1C2-4FC8-B58C-9DD35E0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3748-3170-4E0A-A022-9CF8C4F7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97C-994D-414B-8492-1847D5B8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6F8F-9F4A-46AC-B874-731530B1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7C06-54B9-4009-B537-0425E0D1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816B-F337-4CB3-A7B8-396A0398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1AC5-DBB4-4EDE-948E-44C01866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F98C-1C58-4412-951D-9CB5CA7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2D2FC-DB00-474B-9053-B26AB7D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0F85-D267-4FF6-ADAB-45699DE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6164-CEBC-4B19-BA43-BEB9848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E0F8-825F-4E30-B2C5-35C1D58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6F61-3B04-4182-8882-FD8C5E0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622-B1C2-460A-8B8C-6A2B294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E283-1E52-4AF0-A4F4-6DBDCEFB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A5DB-368D-473F-BE2A-96057F2F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BD58-3453-49AD-9466-471A78CE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EA4BD-6C59-4B88-A5EA-75C9B75A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0307-B4E2-42E7-8B9D-76E12FE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8E056-08AE-4AB7-B8A7-3629176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5B36-303F-4616-97FB-A968A2C3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2F5F9-FBC7-4421-B5E9-C1841296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F9403-5C25-465A-A679-8FD9550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0EB3-178A-4D62-A06E-8BF6A02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E13-1D36-4702-8335-9FA7F277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C4F6-B229-47E5-BBA4-6712539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B803-E012-485B-B7F5-4621A71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58064-DC08-40A8-9A4F-D7524A2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F833-DF67-44C5-8F28-807EB2D1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D981-56D8-40A4-B0E0-C7BFF611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3A8B-657E-4C8C-8A68-E9C9922A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2018-C0B2-4787-A87B-1329AED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98076-2A3D-4804-AA10-1D4906C7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C9C36-4D71-4195-A245-9671D161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E3BC-A745-4E03-A6E4-62BFF154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1DC-CAF8-4B49-B5E1-31F82851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12880" y="609120"/>
            <a:ext cx="846288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3CED-6C60-4655-98E3-97557142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55C4-4183-4799-BD40-62B127C9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7DEC0-D5F5-4AFD-A7F5-CA673E6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2399-8F11-408C-8E5D-0B93EC7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12880" y="4187880"/>
            <a:ext cx="84628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625B-9580-49E7-9E9C-CD006BC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49440" y="216036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1288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49440" y="4187880"/>
            <a:ext cx="41295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4B64-C411-4E90-B6FC-640A502B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7452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35800" y="216036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1288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67452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35800" y="4187880"/>
            <a:ext cx="27248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EA0B-03B9-45A0-BC43-98AABA2E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852A7-20BE-4B63-ADB5-1F7BE9B6639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53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8EC9F-E8CE-43E4-9F3F-E202223BF0F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A2B46-8F38-4DCB-B841-4A5B37D004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15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F6CA1-9188-4F61-9554-8C430014BF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1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C643C-35A8-4AC9-8C92-75E0A7BD56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11160" y="-7920"/>
              <a:ext cx="115092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20556-7391-4959-AAEE-1FC58CD372F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17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2A6E7-B3A3-4FBE-A0B0-E5C3553EB2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11160" y="-7920"/>
            <a:ext cx="12227040" cy="6873840"/>
            <a:chOff x="-11160" y="-7920"/>
            <a:chExt cx="12227040" cy="6873840"/>
          </a:xfrm>
        </p:grpSpPr>
        <p:sp>
          <p:nvSpPr>
            <p:cNvPr id="371" name="Freeform 6"/>
            <p:cNvSpPr/>
            <p:nvPr/>
          </p:nvSpPr>
          <p:spPr>
            <a:xfrm>
              <a:off x="-11160" y="4013280"/>
              <a:ext cx="60948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6842160" y="4175280"/>
              <a:ext cx="536256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9390240" y="0"/>
              <a:ext cx="162720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9190080" y="0"/>
              <a:ext cx="302580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9607680" y="-7920"/>
              <a:ext cx="259704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8850600" y="3919680"/>
              <a:ext cx="335268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9347400" y="-7920"/>
              <a:ext cx="285732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11062080" y="-7920"/>
              <a:ext cx="114300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10769760" y="-7920"/>
              <a:ext cx="142236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10747440" y="4894200"/>
              <a:ext cx="14587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642960" y="790560"/>
            <a:ext cx="611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8996400" y="2886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12880" y="2160360"/>
            <a:ext cx="8462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720684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812520" y="6041520"/>
            <a:ext cx="6164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593200" y="6041520"/>
            <a:ext cx="682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21F0-1231-4E1C-BF51-1D2BBD63B7C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docs.cntd.ru/document/1301308270#7EC0KH" TargetMode="External"/><Relationship Id="rId2" Type="http://schemas.openxmlformats.org/officeDocument/2006/relationships/hyperlink" Target="https://docs.cntd.ru/document/1301308270#7EG0KJ" TargetMode="External"/><Relationship Id="rId3" Type="http://schemas.openxmlformats.org/officeDocument/2006/relationships/hyperlink" Target="https://docs.cntd.ru/document/1301308270#7E20KB" TargetMode="External"/><Relationship Id="rId4" Type="http://schemas.openxmlformats.org/officeDocument/2006/relationships/hyperlink" Target="https://docs.cntd.ru/document/1301308270#7E20KB" TargetMode="External"/><Relationship Id="rId5" Type="http://schemas.openxmlformats.org/officeDocument/2006/relationships/hyperlink" Target="https://docs.cntd.ru/document/1301308270#7E20KB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36520"/>
            <a:ext cx="1219212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Рекомендации для тех, кто аттестуется</a:t>
            </a:r>
            <a:br>
              <a:rPr sz="5400"/>
            </a:br>
            <a:r>
              <a:rPr b="1" lang="ru-RU" sz="5400" spc="-1" strike="noStrike">
                <a:solidFill>
                  <a:srgbClr val="3f781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3f7819"/>
                </a:solidFill>
                <a:latin typeface="Arial Narrow"/>
              </a:rPr>
              <a:t>/</a:t>
            </a:r>
            <a:r>
              <a:rPr b="1" lang="ru-RU" sz="3200" spc="-1" strike="noStrike">
                <a:solidFill>
                  <a:srgbClr val="3f7819"/>
                </a:solidFill>
                <a:latin typeface="Arial Narrow"/>
              </a:rPr>
              <a:t>информационные материалы по вопросам аттестации/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15880" y="4848120"/>
            <a:ext cx="1154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Вотякова Ирина Александровна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Методист  технического отдела аттест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f7819"/>
                </a:solidFill>
                <a:latin typeface="Arial Narrow"/>
              </a:rPr>
              <a:t>педагогических кадров ГАУ ДПО НСО НИПКиПР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66549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800" y="0"/>
            <a:ext cx="1209996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методист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02680" y="1874520"/>
            <a:ext cx="12401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методическим объеди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образовательной организации и активного участия в методической работе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ководства разработкой программно-методического сопровож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, в том числе методического сопровождения реализации инновационных образовательных программ и проектов в образовательной организ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й поддержки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 при подготовке к участию в профессиональных конкурсах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я в методической поддержке (сопровождении) педагогических работник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направленной на их профессиональное развитие, преодоление профессиональных дефицит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дачи опы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менению в образовательной организации авторских учебных и (или) учебно-методических разработок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800" y="150840"/>
            <a:ext cx="1209996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51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ая категори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едагог-наставник"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едагогическим работникам на основе следующих показателей деятельности, не входящей в должностные обязанности по занимаемой в организации должност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203040" y="2141640"/>
            <a:ext cx="1168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руководства практической подготовкой студентов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по образовательным программам среднего профессионального образования и (или) образовательным программам высшего образования;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 наставничества в отношении педагогических работник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, активного сопровождения их профессионального развития в образовательной организации;                содействия в подготовке педагогических работников, в том числе из числа молодых специалистов, к участию в конкурсах профессионального (педагогического) мастерства;                     - -     --распространения авторских подходов и методических разработок в области наставнической деятельности в образовательной организации.             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2"/>
          <p:cNvSpPr/>
          <p:nvPr/>
        </p:nvSpPr>
        <p:spPr>
          <a:xfrm>
            <a:off x="614520" y="531720"/>
            <a:ext cx="107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.52. Оценка деятельност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х работников в целях установления квалификационных категори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"педагог-методист" и "педагог-наставник"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аттестационной комиссией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основе ходатайст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дателя, предусмотренного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1"/>
              </a:rPr>
              <a:t>п. 48  Порядк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а также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казател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усмотренных     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2"/>
              </a:rPr>
              <a:t>п. 50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и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3"/>
              </a:rPr>
              <a:t>51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4"/>
              </a:rPr>
              <a:t> </a:t>
            </a:r>
            <a:r>
              <a:rPr b="0" lang="ru-RU" sz="3600" spc="-1" strike="noStrike" u="sng">
                <a:solidFill>
                  <a:srgbClr val="99ca3c"/>
                </a:solidFill>
                <a:uFillTx/>
                <a:latin typeface="Times New Roman"/>
                <a:ea typeface="Calibri"/>
                <a:hlinkClick r:id="rId5"/>
              </a:rPr>
              <a:t>Порядка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1077912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86113"/>
                </a:solidFill>
                <a:latin typeface="Arial"/>
                <a:ea typeface="Arial"/>
              </a:rPr>
              <a:t>Проведите объективную самооценк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59" name="Объект 3" descr=""/>
          <p:cNvPicPr/>
          <p:nvPr/>
        </p:nvPicPr>
        <p:blipFill>
          <a:blip r:embed="rId1"/>
          <a:stretch/>
        </p:blipFill>
        <p:spPr>
          <a:xfrm>
            <a:off x="-6480" y="706320"/>
            <a:ext cx="12131640" cy="595008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: вниз 2"/>
          <p:cNvSpPr/>
          <p:nvPr/>
        </p:nvSpPr>
        <p:spPr>
          <a:xfrm>
            <a:off x="10769760" y="6018120"/>
            <a:ext cx="588960" cy="708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55680" y="93600"/>
          <a:ext cx="11701440" cy="6521400"/>
        </p:xfrm>
        <a:graphic>
          <a:graphicData uri="http://schemas.openxmlformats.org/drawingml/2006/table">
            <a:tbl>
              <a:tblPr/>
              <a:tblGrid>
                <a:gridCol w="11701440"/>
              </a:tblGrid>
              <a:tr h="1117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 актуальный период для систематизации документов и подготовки к аттест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54036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ьте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 комплексных мероприяти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четом ваших потребностей и возможностей,  в котором рекомендуем отрази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ель профессионального развит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бота над методической тем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работка методических материалов; обобщение опыта работ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вышение квалификаци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рганизация  инновационной и экспериментальной деятельности и т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 algn="just">
                        <a:lnSpc>
                          <a:spcPct val="111000"/>
                        </a:lnSpc>
                        <a:spcBef>
                          <a:spcPts val="1001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педагог выбирает сво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й маршрут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овершенствованию выявленных профессиональных потребностей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 учетом уровня своих притя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127080" y="223920"/>
          <a:ext cx="11853720" cy="7119720"/>
        </p:xfrm>
        <a:graphic>
          <a:graphicData uri="http://schemas.openxmlformats.org/drawingml/2006/table">
            <a:tbl>
              <a:tblPr/>
              <a:tblGrid>
                <a:gridCol w="1185372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, что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6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валификационные категории,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установл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до  вступления в силу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Приказа № 196 от   24.03.2023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сохраняются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в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течение срока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MS Mincho"/>
                        </a:rPr>
                        <a:t>на который они были установлены.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2 Прика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 избежание дополнительных запросов об аттестуемом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у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ложить в пакет документ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итоги предыдущей аттестации (если получатель услуг был ранее аттестова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 (копия докумен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ющий назначение на должность, по которой аттестуется получатель 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 об образова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Схема 3" descr=""/>
          <p:cNvPicPr/>
          <p:nvPr/>
        </p:nvPicPr>
        <p:blipFill>
          <a:blip r:embed="rId1"/>
          <a:stretch/>
        </p:blipFill>
        <p:spPr>
          <a:xfrm>
            <a:off x="165240" y="96840"/>
            <a:ext cx="11831400" cy="110340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2"/>
          <a:stretch/>
        </p:blipFill>
        <p:spPr>
          <a:xfrm>
            <a:off x="36360" y="1109520"/>
            <a:ext cx="121921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316080" y="-212760"/>
            <a:ext cx="11559960" cy="6792480"/>
          </a:xfrm>
          <a:prstGeom prst="rect">
            <a:avLst/>
          </a:prstGeom>
          <a:solidFill>
            <a:srgbClr val="ea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ите  решен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 какой фор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е подавать 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епосредственная подач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аттестационную комиссию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заявлен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 почтовому адре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ссии (с уведомлением о вручении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в форме электронного документ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втоматизированную информационную систему (АИС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в электронной системе по аттестации нужно зайти по ссылке http://att.edu54.ru Обязательно проконтролируйте зарегистрировано ли ваше заявл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 подачей заявления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через АИ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затель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бедитесь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ас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есть курирующий методист.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т - Ваш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явление пропад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Схема 3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11565000" cy="7682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588960" y="1056960"/>
            <a:ext cx="11268000" cy="58006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заполнения  сведений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фамилия, имя, отче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е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ави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именование орган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ой работает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определитесь с выбором предметной группы, если подаете через АИС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нимательно выбирайте предметную обла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собенно сфера культуры, ДОП, ДОУ,  коррекция, физкультура и ОБЖ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йте возможности индивидуальных консультац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методис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одержательному наполнению заяв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ложения к нем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если желаете присутствовать на заседании АК, отметьте это в заявле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Схема 3" descr=""/>
          <p:cNvPicPr/>
          <p:nvPr/>
        </p:nvPicPr>
        <p:blipFill>
          <a:blip r:embed="rId1"/>
          <a:stretch/>
        </p:blipFill>
        <p:spPr>
          <a:xfrm>
            <a:off x="165240" y="85680"/>
            <a:ext cx="1216656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61640" y="1260000"/>
            <a:ext cx="12030120" cy="55976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оверьте правильность подачи документов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оставляе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структурированную и систематизированную информаци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о профессиональной деятельн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тельно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изучите инструкцию и алгорит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даете документы через АИС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икрепляемы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файлы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лжны быть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 формате pdf, jpeg, png, не больше 5 мб. 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вложит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акет (подгрузить скан, если через АИС)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копия документа),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тверждающий назначение на долж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 которой проходите аттестацию 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копия документа), подтверждающий итог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ыдущей аттест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если подаете на высшую КК);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умен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овани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(п.28.Порядок аттестаци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 забудьт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верить документы работодател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ном порядке, предусмотренном законодательством.  (п.41 Регламента)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2120" y="220680"/>
            <a:ext cx="117316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нормативные документы по вопросам аттестации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-132120" y="984240"/>
            <a:ext cx="12574440" cy="77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0070c0"/>
                </a:solidFill>
                <a:latin typeface="Trebuchet MS"/>
              </a:rPr>
              <a:t>-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 Федераль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 29.12.2012 № 273-ФЗ «Об образовании в Российской Федерации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кументы прямого действия  обязатель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изучени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Приказ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инистерства просвещения РФ от 24.03.2023 № 196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б утверждении Порядка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ия аттестации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педагогических работников организаций, осуществляющих образовательную деятельно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ОТВЕТЫ</a:t>
            </a:r>
            <a:r>
              <a:rPr b="1" i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епартамента     подготовки профессионального развития и социального обеспечения педагогических работников  Министерства просвещения РФ  и Профсоюза работников народного образования и науки РФ по применению Порядка аттестации от 24 марта 2023 г. № 19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- Регламент  </a:t>
            </a:r>
            <a:r>
              <a:rPr b="1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(в ред. приказа министерства образования Новосибирской области от 04.10.2023 № 2180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01640" y="189000"/>
          <a:ext cx="10007640" cy="7122960"/>
        </p:xfrm>
        <a:graphic>
          <a:graphicData uri="http://schemas.openxmlformats.org/drawingml/2006/table">
            <a:tbl>
              <a:tblPr/>
              <a:tblGrid>
                <a:gridCol w="10007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НА ЗАМЕТКУ!   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поминаем порядок заверения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заверительная надпись «Верно»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олжность лица, заверившего документы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подпись заверившего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сшифровка подпис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ата заверения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ечать организаци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Схема 3" descr=""/>
          <p:cNvPicPr/>
          <p:nvPr/>
        </p:nvPicPr>
        <p:blipFill>
          <a:blip r:embed="rId1"/>
          <a:stretch/>
        </p:blipFill>
        <p:spPr>
          <a:xfrm>
            <a:off x="298440" y="66600"/>
            <a:ext cx="11734920" cy="18590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588960" y="2671920"/>
            <a:ext cx="11268000" cy="418608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 на более высокую ил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ту же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предоставьте сведения, подтверждающие наличие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наград, званий, знаков отличия, сведений о награждени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участие в профессиональных конкурсах, которые получены в течение пяти лет предшествующих аттестации;          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3" name="Рисунок 1" descr=""/>
          <p:cNvPicPr/>
          <p:nvPr/>
        </p:nvPicPr>
        <p:blipFill>
          <a:blip r:embed="rId2"/>
          <a:stretch/>
        </p:blipFill>
        <p:spPr>
          <a:xfrm>
            <a:off x="5402160" y="1905120"/>
            <a:ext cx="820800" cy="69048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4" descr=""/>
          <p:cNvPicPr/>
          <p:nvPr/>
        </p:nvPicPr>
        <p:blipFill>
          <a:blip r:embed="rId3"/>
          <a:stretch/>
        </p:blipFill>
        <p:spPr>
          <a:xfrm>
            <a:off x="9053640" y="6227640"/>
            <a:ext cx="8348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3"/>
          <p:cNvSpPr/>
          <p:nvPr/>
        </p:nvSpPr>
        <p:spPr>
          <a:xfrm>
            <a:off x="284040" y="0"/>
            <a:ext cx="1156176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учи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е награ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филю педагогической деятельност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ые з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чинающиеся со слов «Народный», «Заслуженный»;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и отлич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«Отличник народного просвещения», «Отличник профессионально-технического образования», «Почетный работник общего образования Российской Федерации»; другие почетные звания и ведомственные знаки отличия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ены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едомственны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грудными знак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(«За заслуги в образовании», «За вклад в Российскую культуру» и др.), медалью К.Д. Ушинског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тной грамото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Благодарностью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зидента Российской Федера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Почетными грамотам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 конкурс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реализации приоритет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ого проекта «Образование»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6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2114640" cy="7524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" descr=""/>
          <p:cNvPicPr/>
          <p:nvPr/>
        </p:nvPicPr>
        <p:blipFill>
          <a:blip r:embed="rId2"/>
          <a:stretch/>
        </p:blipFill>
        <p:spPr>
          <a:xfrm>
            <a:off x="8005680" y="6248520"/>
            <a:ext cx="1128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284040" y="0"/>
            <a:ext cx="1177632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)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и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ер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пломан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ауреатами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народных, федеральных и областных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чных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 профилю деятельности аттестуемого работника («Учитель года», «Воспитатель года», «Педагог-психолог года», «Сердце отдаю детям», «Вожатый года», «Преподаватель года», «Лучший мастер по профессии», «Лидер в образовании», «Педагогический дебют», «Лучший преподаватель детской школы искусств», «Мастер года», «Учитель-дефектолог России», «Лучший учитель татарского языка и литературы», «Первый учитель»),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осударственных преми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сибирской области;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ждународного, федерального, регионального уровней – на высшую квалификационную категорию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-</a:t>
            </a:r>
            <a:r>
              <a:rPr b="0" lang="ru-RU" sz="2800" spc="-1" strike="noStrike">
                <a:solidFill>
                  <a:srgbClr val="2c3c43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ровня – н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валификационную категор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9" name="Рисунок 1" descr=""/>
          <p:cNvPicPr/>
          <p:nvPr/>
        </p:nvPicPr>
        <p:blipFill>
          <a:blip r:embed="rId1"/>
          <a:stretch/>
        </p:blipFill>
        <p:spPr>
          <a:xfrm>
            <a:off x="6867360" y="-752400"/>
            <a:ext cx="709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Схема 3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11569680" cy="11224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588960" y="1127160"/>
            <a:ext cx="11268000" cy="5649840"/>
          </a:xfrm>
          <a:prstGeom prst="rect">
            <a:avLst/>
          </a:prstGeom>
          <a:noFill/>
          <a:ln cap="rnd" w="12600">
            <a:solidFill>
              <a:srgbClr val="e6b91e"/>
            </a:solidFill>
            <a:miter/>
          </a:ln>
        </p:spPr>
        <p:txBody>
          <a:bodyPr anchor="t">
            <a:normAutofit/>
          </a:bodyPr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работники, имеющие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ученые звания и степен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 аттестаци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на ту же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лификационную категорию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имеете первую КК , подать можно по льготе на первую КК, а на высшую КК – на общих основания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algn="just">
              <a:lnSpc>
                <a:spcPct val="111000"/>
              </a:lnSpc>
              <a:spcBef>
                <a:spcPts val="1001"/>
              </a:spcBef>
              <a:spcAft>
                <a:spcPts val="62"/>
              </a:spcAft>
              <a:buClr>
                <a:srgbClr val="90c226"/>
              </a:buClr>
              <a:buSzPct val="80000"/>
              <a:buFont typeface="Trebuchet MS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Стрелка: вниз 1"/>
          <p:cNvSpPr/>
          <p:nvPr/>
        </p:nvSpPr>
        <p:spPr>
          <a:xfrm>
            <a:off x="5538960" y="995400"/>
            <a:ext cx="793440" cy="914400"/>
          </a:xfrm>
          <a:prstGeom prst="downArrow">
            <a:avLst>
              <a:gd name="adj1" fmla="val 50000"/>
              <a:gd name="adj2" fmla="val 4565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800" y="91800"/>
            <a:ext cx="11937960" cy="110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А ЗАМЕТКУ!        </a:t>
            </a:r>
            <a:r>
              <a:rPr b="1" lang="ru-RU" sz="3200" spc="-1" strike="noStrike">
                <a:solidFill>
                  <a:srgbClr val="486113"/>
                </a:solidFill>
                <a:latin typeface="Arial"/>
                <a:ea typeface="Arial"/>
              </a:rPr>
              <a:t>Вам может быть отказано </a:t>
            </a:r>
            <a:r>
              <a:rPr b="1" lang="ru-RU" sz="2800" spc="-1" strike="noStrike">
                <a:solidFill>
                  <a:srgbClr val="486113"/>
                </a:solidFill>
                <a:latin typeface="Arial"/>
                <a:ea typeface="Arial"/>
              </a:rPr>
              <a:t>в приеме заявления, если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5200" y="1473120"/>
            <a:ext cx="115920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за установлением той же самой квалификационной категории (первой или высшей) следует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до истечения 1 года об отка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К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становлении этой квалификационной категории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с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ия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ш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ой же должност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450720" algn="just">
              <a:lnSpc>
                <a:spcPct val="101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аетесь с заявлением в аттестационную комиссию, но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на день подачи заявления не замещаете должно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ого работника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в организации, осуществляющей образовательную дея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just">
              <a:lnSpc>
                <a:spcPct val="101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Схема 3" descr=""/>
          <p:cNvPicPr/>
          <p:nvPr/>
        </p:nvPicPr>
        <p:blipFill>
          <a:blip r:embed="rId1"/>
          <a:stretch/>
        </p:blipFill>
        <p:spPr>
          <a:xfrm>
            <a:off x="-23760" y="231840"/>
            <a:ext cx="12069720" cy="1438200"/>
          </a:xfrm>
          <a:prstGeom prst="rect">
            <a:avLst/>
          </a:prstGeom>
          <a:ln w="0">
            <a:noFill/>
          </a:ln>
        </p:spPr>
      </p:pic>
      <p:pic>
        <p:nvPicPr>
          <p:cNvPr id="486" name="Объект 5" descr=""/>
          <p:cNvPicPr/>
          <p:nvPr/>
        </p:nvPicPr>
        <p:blipFill>
          <a:blip r:embed="rId2"/>
          <a:stretch/>
        </p:blipFill>
        <p:spPr>
          <a:xfrm>
            <a:off x="176040" y="1407960"/>
            <a:ext cx="1180800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82800" y="345960"/>
            <a:ext cx="79977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Calibri"/>
              </a:rPr>
              <a:t>Отрицательное решени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63600" y="1854360"/>
            <a:ext cx="932184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(об отказе в установлении квалификационной категори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направляется уведомл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заявителю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тказе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высшей К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яется имеющаяся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вая КК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ыла установлена после 1 сентября 2023 год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0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аттеста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отказан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ращаетесь  по желанию на </a:t>
            </a: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ту же КК не ранее чем через год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.41 Порядок аттестации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5400" y="134640"/>
            <a:ext cx="117601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a5010"/>
                </a:solidFill>
                <a:latin typeface="Trebuchet MS"/>
              </a:rPr>
              <a:t>Информация, необходимая педагогическому работнику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" y="820800"/>
            <a:ext cx="1148076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ультации  в техническом отделе аттестации НИПК и ПРО начальник отдела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хоманова Наталья Романовна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27-02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09@mail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сты отдел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якова Ирина Александровна те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.почт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-09@yandex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ина Екатерина Александровна тел.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3-50-0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.почта –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binina@ngs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ая поддержка (если подаете заявление через АИС)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лучае ошибок, сбоев, неисправностей и других проблем, связанных с работой самой системы, обращайтесь в службу технической поддерж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зловский Ярослав Александрович.      тел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963 942 13 18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онедельник -Пятница с 9:00 до 17:00).      E-mail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t@oblcit.r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34680" y="90360"/>
            <a:ext cx="1092204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2" name="Рисунок 1" descr=""/>
          <p:cNvPicPr/>
          <p:nvPr/>
        </p:nvPicPr>
        <p:blipFill>
          <a:blip r:embed="rId1"/>
          <a:stretch/>
        </p:blipFill>
        <p:spPr>
          <a:xfrm>
            <a:off x="839880" y="2117880"/>
            <a:ext cx="9882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12880" y="609120"/>
            <a:ext cx="84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3f7819"/>
                </a:solidFill>
                <a:latin typeface="Arial"/>
                <a:ea typeface="Arial"/>
              </a:rPr>
              <a:t>        </a:t>
            </a:r>
            <a:r>
              <a:rPr b="1" lang="ru-RU" sz="4000" spc="-1" strike="noStrike">
                <a:solidFill>
                  <a:srgbClr val="2a5010"/>
                </a:solidFill>
                <a:latin typeface="Arial"/>
                <a:ea typeface="Arial"/>
              </a:rPr>
              <a:t>Рекомендуем ознакомиться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1320" y="1526760"/>
            <a:ext cx="1173636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риказ Министерства здравоохранения и социального развития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6 августа 2010 г. N 761н  «Об утверждении Единого квалификационного справочника должностей руководителей, специалистов и служащих, раздел "Квалификационные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характеристики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ников образования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Arial"/>
                <a:ea typeface="Arial"/>
              </a:rPr>
              <a:t>Постановление  Правительства РФ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21 февраля 2022 г. N  225   «Об утверждении </a:t>
            </a:r>
            <a:r>
              <a:rPr b="1" lang="ru-RU" sz="2800" spc="-1" strike="noStrike">
                <a:solidFill>
                  <a:srgbClr val="2a5010"/>
                </a:solidFill>
                <a:latin typeface="Arial"/>
                <a:ea typeface="Arial"/>
              </a:rPr>
              <a:t>номенклатуры должност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х работников организаций, осуществляющих образовательную деятельность, должностей руководителей образовательных организаций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3160" y="232920"/>
            <a:ext cx="1163304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йти нормативные документы по аттестации и ознакомиться с памятками 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и методическими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рекомендациями</a:t>
            </a:r>
            <a:r>
              <a:rPr b="1" lang="ru-RU" sz="2800" spc="-1" strike="noStrike">
                <a:solidFill>
                  <a:srgbClr val="3f7819"/>
                </a:solidFill>
                <a:latin typeface="Times New Roman"/>
                <a:ea typeface="MS Mincho"/>
              </a:rPr>
              <a:t> по заполнению приложения к заявлению можно  </a:t>
            </a:r>
            <a:r>
              <a:rPr b="1" lang="ru-RU" sz="2800" spc="-1" strike="noStrike">
                <a:solidFill>
                  <a:srgbClr val="932313"/>
                </a:solidFill>
                <a:latin typeface="Times New Roman"/>
                <a:ea typeface="MS Mincho"/>
              </a:rPr>
              <a:t>на сайте НИПКиПР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92160" y="1616040"/>
          <a:ext cx="11988720" cy="5013360"/>
        </p:xfrm>
        <a:graphic>
          <a:graphicData uri="http://schemas.openxmlformats.org/drawingml/2006/table">
            <a:tbl>
              <a:tblPr/>
              <a:tblGrid>
                <a:gridCol w="11988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ужно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зайт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«НИПКиПРО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едения об образовательной организаци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руктура и органы управления образовательной организацией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технический отдел аттестации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х кадров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документац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433" name="Стрелка: вниз 3"/>
          <p:cNvSpPr/>
          <p:nvPr/>
        </p:nvSpPr>
        <p:spPr>
          <a:xfrm>
            <a:off x="5843520" y="1930320"/>
            <a:ext cx="48420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трелка: вниз 4"/>
          <p:cNvSpPr/>
          <p:nvPr/>
        </p:nvSpPr>
        <p:spPr>
          <a:xfrm>
            <a:off x="8067600" y="2803680"/>
            <a:ext cx="49680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Стрелка: вниз 5"/>
          <p:cNvSpPr/>
          <p:nvPr/>
        </p:nvSpPr>
        <p:spPr>
          <a:xfrm>
            <a:off x="2722680" y="4206960"/>
            <a:ext cx="484200" cy="5508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Стрелка: вниз 6"/>
          <p:cNvSpPr/>
          <p:nvPr/>
        </p:nvSpPr>
        <p:spPr>
          <a:xfrm>
            <a:off x="2722680" y="5384880"/>
            <a:ext cx="57924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792000" y="189000"/>
          <a:ext cx="10922040" cy="6489720"/>
        </p:xfrm>
        <a:graphic>
          <a:graphicData uri="http://schemas.openxmlformats.org/drawingml/2006/table">
            <a:tbl>
              <a:tblPr/>
              <a:tblGrid>
                <a:gridCol w="10922040"/>
              </a:tblGrid>
              <a:tr h="1116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2a5010"/>
                          </a:solidFill>
                          <a:latin typeface="Times New Roman"/>
                          <a:ea typeface="MS Mincho"/>
                        </a:rPr>
                        <a:t>Основные нововведен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f4ca"/>
                    </a:solidFill>
                  </a:tcPr>
                </a:tc>
              </a:tr>
              <a:tr h="6055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90c226"/>
                        </a:buClr>
                        <a:buSzPct val="80000"/>
                        <a:buFont typeface="Wingdings 3" charset="2"/>
                        <a:buChar char="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сро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установления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 ограничен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6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новые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, «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педагог-наставник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2072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для аттестации на высшую 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лительности наличия установленной  1КК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(по любой из должностей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625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аттестации на КК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методист»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 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MS Mincho"/>
                        </a:rPr>
                        <a:t>«педагог-наставник»</a:t>
                      </a:r>
                      <a:r>
                        <a:rPr b="1" lang="ru-RU" sz="3200" spc="-1" strike="noStrike">
                          <a:solidFill>
                            <a:srgbClr val="932313"/>
                          </a:solidFill>
                          <a:latin typeface="Times New Roman"/>
                          <a:ea typeface="Times New Roman"/>
                        </a:rPr>
                        <a:t> нет ограничен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и наличия установленной  высшей К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5440" y="609120"/>
            <a:ext cx="10942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ВИДЫ квалификационных категорий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Половина рамки 9"/>
          <p:cNvSpPr/>
          <p:nvPr/>
        </p:nvSpPr>
        <p:spPr>
          <a:xfrm>
            <a:off x="777960" y="4897440"/>
            <a:ext cx="2265120" cy="1468440"/>
          </a:xfrm>
          <a:custGeom>
            <a:avLst/>
            <a:gdLst/>
            <a:ahLst/>
            <a:rect l="l" t="t" r="r" b="b"/>
            <a:pathLst>
              <a:path w="2265363" h="1468437">
                <a:moveTo>
                  <a:pt x="0" y="0"/>
                </a:moveTo>
                <a:lnTo>
                  <a:pt x="2265363" y="0"/>
                </a:lnTo>
                <a:lnTo>
                  <a:pt x="1510250" y="489474"/>
                </a:lnTo>
                <a:lnTo>
                  <a:pt x="489474" y="489474"/>
                </a:lnTo>
                <a:lnTo>
                  <a:pt x="489474" y="1151154"/>
                </a:lnTo>
                <a:lnTo>
                  <a:pt x="0" y="1468437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оловина рамки 10"/>
          <p:cNvSpPr/>
          <p:nvPr/>
        </p:nvSpPr>
        <p:spPr>
          <a:xfrm>
            <a:off x="3389400" y="3882960"/>
            <a:ext cx="2163600" cy="1393920"/>
          </a:xfrm>
          <a:custGeom>
            <a:avLst/>
            <a:gdLst/>
            <a:ahLst/>
            <a:rect l="l" t="t" r="r" b="b"/>
            <a:pathLst>
              <a:path w="2163762" h="1393825">
                <a:moveTo>
                  <a:pt x="0" y="0"/>
                </a:moveTo>
                <a:lnTo>
                  <a:pt x="2163762" y="0"/>
                </a:lnTo>
                <a:lnTo>
                  <a:pt x="1442515" y="464604"/>
                </a:lnTo>
                <a:lnTo>
                  <a:pt x="464604" y="464604"/>
                </a:lnTo>
                <a:lnTo>
                  <a:pt x="464604" y="1094542"/>
                </a:lnTo>
                <a:lnTo>
                  <a:pt x="0" y="1393825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Половина рамки 11"/>
          <p:cNvSpPr/>
          <p:nvPr/>
        </p:nvSpPr>
        <p:spPr>
          <a:xfrm>
            <a:off x="7061040" y="2651040"/>
            <a:ext cx="3870360" cy="1941480"/>
          </a:xfrm>
          <a:custGeom>
            <a:avLst/>
            <a:gdLst/>
            <a:ahLst/>
            <a:rect l="l" t="t" r="r" b="b"/>
            <a:pathLst>
              <a:path w="3870325" h="1941513">
                <a:moveTo>
                  <a:pt x="0" y="0"/>
                </a:moveTo>
                <a:lnTo>
                  <a:pt x="3870325" y="0"/>
                </a:lnTo>
                <a:lnTo>
                  <a:pt x="2580230" y="647165"/>
                </a:lnTo>
                <a:lnTo>
                  <a:pt x="647165" y="647165"/>
                </a:lnTo>
                <a:lnTo>
                  <a:pt x="647165" y="1616869"/>
                </a:lnTo>
                <a:lnTo>
                  <a:pt x="0" y="1941513"/>
                </a:lnTo>
                <a:lnTo>
                  <a:pt x="0" y="0"/>
                </a:lnTo>
                <a:close/>
              </a:path>
            </a:pathLst>
          </a:custGeom>
          <a:solidFill>
            <a:srgbClr val="dbf4ca"/>
          </a:solidFill>
          <a:ln cap="rnd" w="19080">
            <a:solidFill>
              <a:srgbClr val="3a5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627120" y="4398840"/>
            <a:ext cx="20304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рвая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3198960" y="3397320"/>
            <a:ext cx="216360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Высшая К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Box 23"/>
          <p:cNvSpPr/>
          <p:nvPr/>
        </p:nvSpPr>
        <p:spPr>
          <a:xfrm>
            <a:off x="7061040" y="1257480"/>
            <a:ext cx="5054760" cy="32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        </a:t>
            </a: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методист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роходят лица занимающи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ности </a:t>
            </a:r>
            <a:r>
              <a:rPr b="1" lang="ru-RU" sz="2000" spc="-1" strike="noStrike">
                <a:solidFill>
                  <a:srgbClr val="932313"/>
                </a:solidFill>
                <a:latin typeface="Times New Roman"/>
                <a:ea typeface="Calibri"/>
              </a:rPr>
              <a:t>методист и старший методи</a:t>
            </a:r>
            <a:r>
              <a:rPr b="1" lang="ru-RU" sz="2400" spc="-1" strike="noStrike">
                <a:solidFill>
                  <a:srgbClr val="932313"/>
                </a:solidFill>
                <a:latin typeface="Times New Roman"/>
                <a:ea typeface="Calibri"/>
              </a:rPr>
              <a:t>ст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imes New Roman"/>
                <a:ea typeface="Calibri"/>
              </a:rPr>
              <a:t>педагог-наставни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1684440" y="5419800"/>
            <a:ext cx="390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язан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едагогической долж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932520" y="4575240"/>
            <a:ext cx="4565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32313"/>
                </a:solidFill>
                <a:latin typeface="Times New Roman"/>
                <a:ea typeface="Calibri"/>
              </a:rPr>
              <a:t>дополнительны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е с методической работой или наставничеств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800" y="-360"/>
            <a:ext cx="1209996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5   Первая КК</a:t>
            </a:r>
            <a:r>
              <a:rPr b="1" lang="ru-RU" sz="2900" spc="-1" strike="noStrike">
                <a:solidFill>
                  <a:srgbClr val="932313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-162360" y="1100160"/>
            <a:ext cx="1226196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осво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образовательны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грам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ом числе в области искусств, физической культуры и спорта по итогам мониторингов, проводимых организаци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стабильных положительных результат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учающимися образовательных программ по итога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ониторинга системы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развит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бучающих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 научной (интеллектуальной), творческой, физкультурно-спортивной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вышение качества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активного участия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методических объединен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51120" y="196560"/>
            <a:ext cx="121921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.36. Высшая КК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203040" y="1480680"/>
            <a:ext cx="1168416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достижен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учающимися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ой динамики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, в том числе в области искусств, физической культуры и спорта по итогам мониторингов, проводимых организацией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 достижения обучающимися положительных результа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ения образовательных программ по итогам мониторинга системы образования, проводимого в порядке, установленном постановлением Правительства Российской Федерации от 5 августа 2013 г. N 66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just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- выявления и развити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ей обучающихся к научной (интеллектуальной), творческой, физкультурно-спортивной деятельности, а также их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Trebuchet MS"/>
              </a:rPr>
              <a:t>П.35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Стрелка: вниз 1"/>
          <p:cNvSpPr/>
          <p:nvPr/>
        </p:nvSpPr>
        <p:spPr>
          <a:xfrm>
            <a:off x="9275760" y="6661080"/>
            <a:ext cx="666720" cy="596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3a5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38200" y="782640"/>
            <a:ext cx="10455120" cy="61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личного вклада в повышение качества образ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вершенствования методов обучения и воспитания, и продуктивного использования новых образовательных технологий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транслиров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едагогических коллективах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пы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ктических результатов своей профессиональной деятельности, в том числе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спериментальной и инновационно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- активного участ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боте методических объедин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х работников организаций,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работке программно-методического сопровожд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ого процесса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фессиональных конкурсах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2T06:57:22Z</dcterms:created>
  <dc:creator>Лихоманова</dc:creator>
  <dc:description/>
  <dc:language>en-US</dc:language>
  <cp:lastModifiedBy>Лавреньева СА</cp:lastModifiedBy>
  <cp:lastPrinted>2023-08-22T03:38:00Z</cp:lastPrinted>
  <dcterms:modified xsi:type="dcterms:W3CDTF">2024-10-15T08:52:55Z</dcterms:modified>
  <cp:revision>300</cp:revision>
  <dc:subject/>
  <dc:title>АТТЕСТАЦИЯ ПЕДАГОГИЧЕСКИХ РАБОТНИКОВ</dc:title>
</cp:coreProperties>
</file>